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0199-79F9-4F17-A0DC-B205E2E6A06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71BE-13A0-4292-8CE3-7632E3B7DB5A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A53A-C476-4E1E-9572-D21CB084E06D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B744-690A-4D85-A565-841A95A7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F163-C646-49CB-BD72-44D6D805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54E1-FF64-44EF-B73A-216982F4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AC59-5598-4DF6-95AD-491FB4DCB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07DA-64B3-4F66-998F-FA3323BC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E13B-67E8-448C-95D0-FF2D4EA4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C406-F437-4BC0-AC60-80BA8E6D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1403-A7A0-4AFB-A48D-275779F6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5BD5-3325-493D-BD0A-B33770ED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FC04-6373-4C3F-A241-0A67C3D7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9274-C93A-4A4E-80C2-92C68379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8F95-6193-4934-B28C-F753A461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09EF-C825-4149-89EA-D6CB6FAB25F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60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61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73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5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2:13Z</dcterms:modified>
  <cp:revision>254</cp:revision>
  <dc:subject/>
  <dc:title>슬라이드 1</dc:title>
</cp:coreProperties>
</file>